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691CF-5392-4793-90E7-B02DF07AE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3EC6A-A46E-4085-BC8E-824CC2B3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55140-E526-4D04-B370-E203B5162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AADED-64B5-489F-9352-C5BD2464F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B39D-3D16-43F4-81DD-9F0B19CD3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6F38-40B0-49CE-806A-DE8A4FC1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E59F-AE15-40EA-88EB-E392300A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2BD4-3A3D-409E-A220-3343A28A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E4C6-6013-4507-B956-A8156C19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58C5-EC51-413C-9476-35B5DD96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6CB9-6409-4024-BC2A-C2B6DAA0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07F80-4C6C-43AF-817D-62FDDA08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8F08-691D-416D-B25D-C9E360AD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966F-F999-432B-9249-28C2B3E2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2F99-B360-4ED3-8367-69394732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E536-FF89-4C42-BFF8-0FEF19EFF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F08A-6DC6-4B4C-B186-7B369D45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4BA09-6F0C-4FA6-BD4B-80F8A6CE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DBE3C-D1B7-4D7A-8D8E-AAB430CA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12E19-826A-4EE3-AD31-8CEDF6D1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EA12F-6828-493F-B376-79C306EC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E24AC-1BF6-4FDA-A6ED-5DF0C4AF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85B0B-4FF7-45A1-86D0-10D5692F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8ABF2-C97A-4227-884B-E1516DC4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A1E0-3804-4D85-A043-6B86E0753D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8CB9-900F-40F1-9990-F921F14460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Логопедические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Arial"/>
              </a:rPr>
              <a:t>игры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полнил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удентки 617 гр. Сухарькова Вероника и Урбан Татья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3588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врики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ие буквы ты видишь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980640"/>
            <a:ext cx="40384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правильная бу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правь одну букву и прочти сло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2779560"/>
            <a:ext cx="4038480" cy="2289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Исправь одну букву и прочти слово"/>
          <p:cNvPicPr/>
          <p:nvPr/>
        </p:nvPicPr>
        <p:blipFill>
          <a:blip r:embed="rId2"/>
          <a:stretch/>
        </p:blipFill>
        <p:spPr>
          <a:xfrm>
            <a:off x="5003640" y="1916280"/>
            <a:ext cx="3822840" cy="4546440"/>
          </a:xfrm>
          <a:prstGeom prst="rect">
            <a:avLst/>
          </a:prstGeom>
          <a:ln w="0">
            <a:noFill/>
          </a:ln>
        </p:spPr>
      </p:pic>
    </p:spTree>
  </p:cSld>
  <p:transition advTm="11000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звитие зрительного внимания</a:t>
            </a:r>
            <a:br>
              <a:rPr sz="2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утаница (анаграм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иши буквы в клеточках, проследив линию, и прочти получившееся сло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Напиши буквы в клеточках"/>
          <p:cNvPicPr/>
          <p:nvPr/>
        </p:nvPicPr>
        <p:blipFill>
          <a:blip r:embed="rId1"/>
          <a:stretch/>
        </p:blipFill>
        <p:spPr>
          <a:xfrm>
            <a:off x="1763640" y="2421000"/>
            <a:ext cx="5112000" cy="3981240"/>
          </a:xfrm>
          <a:prstGeom prst="rect">
            <a:avLst/>
          </a:prstGeom>
          <a:ln w="0">
            <a:noFill/>
          </a:ln>
        </p:spPr>
      </p:pic>
    </p:spTree>
  </p:cSld>
  <p:transition advTm="11000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спутай сло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пиши слоги в клетки и прочитай слова, которые у тебя получили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Впиши слоги в клетки"/>
          <p:cNvPicPr/>
          <p:nvPr/>
        </p:nvPicPr>
        <p:blipFill>
          <a:blip r:embed="rId1"/>
          <a:stretch/>
        </p:blipFill>
        <p:spPr>
          <a:xfrm>
            <a:off x="1547640" y="2421000"/>
            <a:ext cx="5848560" cy="400032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57240" y="2273400"/>
            <a:ext cx="7229520" cy="23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3000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457200"/>
            <a:ext cx="8147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формировать необходимые для обучения навыки; применять имеющиеся знания в различных условиях; развивать внимание, мышление, волю и любознательность. Увлекательные игры для дошкольников и первоклассников помогут закрепить элементарные знания по фонетике, освоить и развить навыки чтения, закрепить прочный фундамент грамотного пись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16000" y="907920"/>
            <a:ext cx="6648480" cy="628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Цель логопедических игр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advTm="8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оставление слов из бук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915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сстанови алфав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тавь букву, которая должна идти по алфави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79280" y="4000680"/>
            <a:ext cx="850752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с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иши соседей буквы — предыдущую и последующ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Вставь букву"/>
          <p:cNvPicPr/>
          <p:nvPr/>
        </p:nvPicPr>
        <p:blipFill>
          <a:blip r:embed="rId1"/>
          <a:stretch/>
        </p:blipFill>
        <p:spPr>
          <a:xfrm>
            <a:off x="324000" y="2276640"/>
            <a:ext cx="5781600" cy="1504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соседей буквы"/>
          <p:cNvPicPr/>
          <p:nvPr/>
        </p:nvPicPr>
        <p:blipFill>
          <a:blip r:embed="rId2"/>
          <a:stretch/>
        </p:blipFill>
        <p:spPr>
          <a:xfrm>
            <a:off x="539640" y="5013360"/>
            <a:ext cx="5295960" cy="139068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звитие мышления и обогащение лекси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етий лиш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ой звук лишний и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ПИ(П — согласны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ЖШЧ(Ч — мяг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А(А — гласны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ЙЧЦ(Ц — твёрды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ТМ(М — звон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ЖЦ(Ч — мяг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ВК(К — глухо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ШЙЩ(Ш — твёрдый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вой кроссвордё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пиши слова в клеточки так, чтобы они пересекались первыми и последними бук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219640" y="3716280"/>
            <a:ext cx="3024360" cy="2718000"/>
          </a:xfrm>
          <a:prstGeom prst="rect">
            <a:avLst/>
          </a:prstGeom>
          <a:ln w="0">
            <a:noFill/>
          </a:ln>
        </p:spPr>
      </p:pic>
    </p:spTree>
  </p:cSld>
  <p:transition advTm="14000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280" y="765000"/>
            <a:ext cx="814716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Чайнворд «Лесенка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50920" y="1052280"/>
            <a:ext cx="4316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гадай слова и впиши их в указанном стрелками направлении. Последняя буква первого слова является одновременно первой буквой второго слова и т. д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Рыба, живущая у дн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Месяц весны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Лекарство для смазывания царапин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Вьётся из трубы, когда топят печь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Им пишут на доске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Папа лисят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Его заметают на совок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То, чем бодается коров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Он загорается, когда к плите подносят спич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48320" y="1341360"/>
            <a:ext cx="4038480" cy="5112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Чайнворд Лесенка"/>
          <p:cNvPicPr/>
          <p:nvPr/>
        </p:nvPicPr>
        <p:blipFill>
          <a:blip r:embed="rId2"/>
          <a:stretch/>
        </p:blipFill>
        <p:spPr>
          <a:xfrm>
            <a:off x="4284720" y="2060640"/>
            <a:ext cx="4583160" cy="333360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18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вуко-буквенный анали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91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л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еди волнистую линию так, чтобы гласные остались сверху, а согласные — сни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рисунок звуко-буквенный анализ"/>
          <p:cNvPicPr/>
          <p:nvPr/>
        </p:nvPicPr>
        <p:blipFill>
          <a:blip r:embed="rId1"/>
          <a:stretch/>
        </p:blipFill>
        <p:spPr>
          <a:xfrm>
            <a:off x="395280" y="2852640"/>
            <a:ext cx="8064360" cy="328320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456840"/>
            <a:ext cx="821844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вуко-буквенный синтез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нобукв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 и выпиши все большие буквы и составь слово, найди и выпиши все маленькие буквы и составь слов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 все большие белые буквы, все большие чёрные буквы, все маленькие белые, все маленькие чёрные и составь из них 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Найди и выпиши все большие буквы"/>
          <p:cNvPicPr/>
          <p:nvPr/>
        </p:nvPicPr>
        <p:blipFill>
          <a:blip r:embed="rId1"/>
          <a:stretch/>
        </p:blipFill>
        <p:spPr>
          <a:xfrm>
            <a:off x="684360" y="3213000"/>
            <a:ext cx="7740360" cy="311148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логовое доми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1844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уб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каждом кубике — буквы одного слова, на каждой грани кубика — одна буква. Напиши в клетках внизу те буквы, которые не вид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На каждом кубике — буквы одного слова"/>
          <p:cNvPicPr/>
          <p:nvPr/>
        </p:nvPicPr>
        <p:blipFill>
          <a:blip r:embed="rId1"/>
          <a:stretch/>
        </p:blipFill>
        <p:spPr>
          <a:xfrm>
            <a:off x="1258920" y="2708280"/>
            <a:ext cx="6467400" cy="3762360"/>
          </a:xfrm>
          <a:prstGeom prst="rect">
            <a:avLst/>
          </a:prstGeom>
          <a:ln w="0">
            <a:noFill/>
          </a:ln>
        </p:spPr>
      </p:pic>
    </p:spTree>
  </p:cSld>
  <p:transition advTm="4000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гры с буквам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уквы-сестри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йди все одинаковые буквы. О — обведи в кружок, У — в квадрат, И — подчерк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делай бу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ие буквы можно сделать из этих заготово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О — обведи в кружок"/>
          <p:cNvPicPr/>
          <p:nvPr/>
        </p:nvPicPr>
        <p:blipFill>
          <a:blip r:embed="rId1"/>
          <a:stretch/>
        </p:blipFill>
        <p:spPr>
          <a:xfrm>
            <a:off x="684360" y="2565360"/>
            <a:ext cx="4819680" cy="466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Сделай буквы"/>
          <p:cNvPicPr/>
          <p:nvPr/>
        </p:nvPicPr>
        <p:blipFill>
          <a:blip r:embed="rId2"/>
          <a:stretch/>
        </p:blipFill>
        <p:spPr>
          <a:xfrm>
            <a:off x="755640" y="4365720"/>
            <a:ext cx="5810400" cy="183816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6:17:31Z</dcterms:created>
  <dc:creator>студент</dc:creator>
  <dc:description/>
  <dc:language>en-US</dc:language>
  <cp:lastModifiedBy>студент</cp:lastModifiedBy>
  <dcterms:modified xsi:type="dcterms:W3CDTF">2012-04-17T07:13:56Z</dcterms:modified>
  <cp:revision>3</cp:revision>
  <dc:subject/>
  <dc:title>Логопедические</dc:title>
</cp:coreProperties>
</file>